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3DF1-D7C0-4649-A8B4-0C95F50A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2F25-138B-4C5D-9DDD-564F6B66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33C4-EFAE-4F8F-AE41-319C7A169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D71A-3BF9-4DA2-9BA0-1969D551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9F86-E21F-49E9-A205-F557BF16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1C6F-31C2-4DF2-90C0-633CD35A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75AA-E86E-47D0-985A-E9A173EA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35DE-0CB3-40BB-93C5-3AF17E8D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6F55-0459-4E10-ABF0-A00459C3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FD47-29B2-40EA-9592-22DEF622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688F-B001-4C20-AC0A-405D59C7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A77E-947C-495C-B175-B59F726F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B03E-7E18-43CC-936D-650EF02AE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Me llamo __________ Clase 702 </a:t>
            </a:r>
            <a:br>
              <a:rPr sz="3600"/>
            </a:b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La fecha es el primero de febrero del 20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-360" y="16765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posito 41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uantos jugadores hay en un equipo de futb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b050"/>
                </a:solidFill>
                <a:latin typeface="Arial"/>
              </a:rPr>
              <a:t>L.O: to practice soccer 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1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http://sports.inquirer.net/files/2014/07/james-rodriguez.jpg"/>
          <p:cNvPicPr/>
          <p:nvPr/>
        </p:nvPicPr>
        <p:blipFill>
          <a:blip r:embed="rId1"/>
          <a:stretch/>
        </p:blipFill>
        <p:spPr>
          <a:xfrm>
            <a:off x="-830160" y="762120"/>
            <a:ext cx="5325840" cy="32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4" descr="http://www.experts-du-sport.be/wp-content/uploads/2014/06/neymar.jpg"/>
          <p:cNvPicPr/>
          <p:nvPr/>
        </p:nvPicPr>
        <p:blipFill>
          <a:blip r:embed="rId2"/>
          <a:stretch/>
        </p:blipFill>
        <p:spPr>
          <a:xfrm>
            <a:off x="6477120" y="762120"/>
            <a:ext cx="3808440" cy="3247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¿Que tiene el uniforme del equipo de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76320" y="40194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lombi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3"/>
          <p:cNvSpPr/>
          <p:nvPr/>
        </p:nvSpPr>
        <p:spPr>
          <a:xfrm>
            <a:off x="2438280" y="4038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Argenti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6" descr="http://ea-cdn.voxmedia.com/production/sbnation-world-cup-preview-2014/images/teams/group-d/costarica-player-1-51ddeb24.jpg"/>
          <p:cNvPicPr/>
          <p:nvPr/>
        </p:nvPicPr>
        <p:blipFill>
          <a:blip r:embed="rId3"/>
          <a:stretch/>
        </p:blipFill>
        <p:spPr>
          <a:xfrm>
            <a:off x="3809880" y="762120"/>
            <a:ext cx="3276720" cy="3276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http://www.footballkitnews.com/wp-content/uploads/2013/11/Lionel-Messi-Argentina-2014-Kit.jpg"/>
          <p:cNvPicPr/>
          <p:nvPr/>
        </p:nvPicPr>
        <p:blipFill>
          <a:blip r:embed="rId4"/>
          <a:stretch/>
        </p:blipFill>
        <p:spPr>
          <a:xfrm>
            <a:off x="1981080" y="762120"/>
            <a:ext cx="2438640" cy="3276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6"/>
          <p:cNvSpPr/>
          <p:nvPr/>
        </p:nvSpPr>
        <p:spPr>
          <a:xfrm>
            <a:off x="4648320" y="40194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Costa Ric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7"/>
          <p:cNvSpPr/>
          <p:nvPr/>
        </p:nvSpPr>
        <p:spPr>
          <a:xfrm>
            <a:off x="7391520" y="4038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Brazi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2114640" y="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1523880" y="3657600"/>
            <a:ext cx="3733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1371600" y="5029200"/>
            <a:ext cx="3733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1371600" y="5410080"/>
            <a:ext cx="3733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1295280" y="6059520"/>
            <a:ext cx="5562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1523880" y="396252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sad! Im so sorr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3581280" y="49528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 you thin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5029200" y="564984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 you think of the tea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1447920" y="64119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think the team is fantastic. It always w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" y="68580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la tabla de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164. Escucha y compl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1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Tarea # 4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a p. 5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amen: Capitulo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23880" y="1808280"/>
          <a:ext cx="6096240" cy="10112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c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rre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ACHER ORAL PARTS, ej. 1 p. 16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6320" y="83808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jugador mete un gol cuando el balon no entra en la por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jugadores vuelven al campo despues del part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jugadores forman un equi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equipo pierde y el otro g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jugadora puede lanzar el balon con el p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aficionados juegan en el part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ndo juegan futbol en los paises hispanos, los jugadores no pueden tocar el balon con las m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18:38:52Z</dcterms:created>
  <dc:creator>Helen Zumaeta</dc:creator>
  <dc:description/>
  <dc:language>en-US</dc:language>
  <cp:lastModifiedBy>Helen Zumaeta</cp:lastModifiedBy>
  <cp:lastPrinted>2016-01-28T13:43:13Z</cp:lastPrinted>
  <dcterms:modified xsi:type="dcterms:W3CDTF">2016-02-01T17:54:55Z</dcterms:modified>
  <cp:revision>60</cp:revision>
  <dc:subject/>
  <dc:title>Me llamo _________        Clase 7 IM La fecha es el 4 de noviembre del 2010</dc:title>
</cp:coreProperties>
</file>